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7D74-37E2-4A73-836B-1720F3EC5D1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057D-4D90-4CFB-90C0-7F6660CF71F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0B9E-3886-4296-819C-7BE01B2D094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D1D0-105A-44B2-8AA7-634FD3B3F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B1FA-5CA1-470E-9C55-A629B6D3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CE0E-A99A-4ABF-AE13-E5C89D741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9F67-30BC-4741-9361-D03730B9C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3047-F7CD-4952-B441-BE8A44E22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D0F1-0516-4418-A4ED-63E1F843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D713-CFD5-4835-967D-499408F9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9904-166D-4DF6-81D3-79F69D34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92DB-F809-4160-9FB0-F95F73A2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2519-B0E2-45C3-84FD-2229478E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87FD-44C5-414E-A8DF-3379C86F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4B17-F0AC-445E-9A81-1B09C381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1D3A-6D53-41EC-BB98-80CBC429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5FEF-C9EE-4EF6-8E07-FE017DB6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F1B8-E62B-4C51-89BB-2CED7DC3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9DC6-9CFE-4940-8D54-38534DF4B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ED1E-855A-43F5-8D65-01C52BA56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F139E-37C0-499B-BF94-1E0B47DE7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56507-17EF-41BC-A929-0F326F33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BC412-0205-462B-BE82-77EB5FAF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4D372-4AFE-42C6-A618-26FA2C1B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CBF75-6F1F-4410-86B2-CA723694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0619-4141-4DDC-ABA9-75575C61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72F9E-D178-4A07-B3A9-5772BF4F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478B1-746F-4884-A623-3DB0157E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98854-3D7C-4BA1-9EE5-FD075E7B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E770B-213B-4E03-96E3-F12E8D4A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82944-9786-4B1E-88EC-A24E3F43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37F44-1DFD-4EB4-8EF4-736031CEE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3E1B4-378E-43A1-825B-52530CFC9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28856-7FE1-422D-885A-9083E1B40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BE77F-2CDB-4CB4-AD85-677D099A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9D738-F63C-4FAB-B3D3-748D454C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A7DE-8962-4B23-A088-B79757A5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41E8C-1D8B-4056-87C0-D166ADAE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E5014-D117-402E-A127-7DADE82B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B9B8A-E861-4426-87BA-829E9C7B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D94FB-B61E-46F2-A592-B39F1BF3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F41ED-485A-44A4-BED9-D480B153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2C22A-BA65-4737-B360-E1A4C5A8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600BA-6D8F-4782-8F42-6D25676E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AB0E1-3AF6-45BA-8BEC-66E8D934B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19692-9F67-49D1-AF6D-F61B7C396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8F5F9-DB8D-4BFA-897E-DCE811337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38A7-5DBD-4D61-9C2F-C370249E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B979C-99B3-4EA4-93A0-92B0A2A2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51D72-BB47-4759-9F5F-E16E2D67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8419E-6794-46E5-99DD-EEA51747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5F364-2A6F-4129-B7C1-F1FEF961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10556-B445-4820-BB0B-B4CB39CC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05237-3671-4997-AD40-CD2E27F0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1B772-3D04-44D3-8B11-F85CEAC7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CCB89-09C2-4557-A372-2E836D49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2B7A9-3EA7-42F3-A7E5-1FFF3683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AD457-EF18-4F2D-80BB-A2D1E65E8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6474-B82C-4B6A-B9BF-5E275F73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6C143-C06C-4B74-B33F-DE08E81D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86943-8250-4F2E-9F91-9A4B273C3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C61F2-C383-47D2-98CC-A605EC7F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F08ED-5F88-4E6B-8766-8DD1AB43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5AC26-6A9B-40FF-890A-1CD9A03E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981E4-721F-4927-95F5-DF8B42B2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9C956-801C-4A30-83F8-2C84DF71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B05F7-255C-4901-BA74-C847E035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FC265-B310-4562-9446-B0CD1B77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E1E1C-1F9C-4CE6-87D1-1F982B13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91C6-76C7-495B-BA99-92BF60A0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A46AE-8118-4853-9B96-97EDA67A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E9575-460C-45F5-B57B-A67766E58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51E99-80AB-4C5A-A389-765A2EDE5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377A-DF35-4AC0-BDE8-7573DC0E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D2D1-7F91-4204-A831-93BC718B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7FAB-83A6-4408-8775-4375B67180F7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C87F-9D97-44F3-809F-D28B17C2276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E6A4-3A25-4878-A57E-711715673C8D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CD6F-0A63-44E3-91E3-A8E60DC2CCA6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D31C-A279-4E98-81EB-3FDC40939AD8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D48B-B953-4675-8DA7-1F372C4704E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3050-66B1-4241-853F-373A158CB8FD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0A13-3048-48B1-8CEC-AB295A07FA4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79" name="Retângulo 9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EF40-F016-4135-B952-9D371C5AC82D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3929-C5BE-4CD6-A247-11A618B471E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670F-E4B2-4564-83C8-A08BE2DD9626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AD77-F09B-40B1-9087-54C4CAE37B1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Figura2"/>
          <p:cNvPicPr/>
          <p:nvPr/>
        </p:nvPicPr>
        <p:blipFill>
          <a:blip r:embed="rId1"/>
          <a:stretch/>
        </p:blipFill>
        <p:spPr>
          <a:xfrm>
            <a:off x="2208240" y="1189080"/>
            <a:ext cx="7543800" cy="51926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2567160" y="1413000"/>
            <a:ext cx="693396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RESULTADO DO REGIME GERAL DE PREVIDÊNCIA SOCIAL – RGP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Outubro/20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rasília, novembro de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334800" y="6286680"/>
            <a:ext cx="108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RGPS – Subsecretaria do Regime Geral de Previdência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334800" y="692280"/>
            <a:ext cx="1080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Imagem 1" descr=""/>
          <p:cNvPicPr/>
          <p:nvPr/>
        </p:nvPicPr>
        <p:blipFill>
          <a:blip r:embed="rId1"/>
          <a:stretch/>
        </p:blipFill>
        <p:spPr>
          <a:xfrm>
            <a:off x="0" y="1268280"/>
            <a:ext cx="12192120" cy="526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1523880" y="76500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de Outubr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351000" y="646920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Imagem 1" descr=""/>
          <p:cNvPicPr/>
          <p:nvPr/>
        </p:nvPicPr>
        <p:blipFill>
          <a:blip r:embed="rId1"/>
          <a:stretch/>
        </p:blipFill>
        <p:spPr>
          <a:xfrm>
            <a:off x="351000" y="1484280"/>
            <a:ext cx="1150596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334800" y="731880"/>
            <a:ext cx="10801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263520" y="64832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Imagem 1" descr=""/>
          <p:cNvPicPr/>
          <p:nvPr/>
        </p:nvPicPr>
        <p:blipFill>
          <a:blip r:embed="rId1"/>
          <a:stretch/>
        </p:blipFill>
        <p:spPr>
          <a:xfrm>
            <a:off x="334800" y="1450800"/>
            <a:ext cx="11449080" cy="500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URB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285840" y="836640"/>
            <a:ext cx="10850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Outubro (2016 e 2017) – Em R$ milhões de Outubr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285840" y="646416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Imagem 1" descr=""/>
          <p:cNvPicPr/>
          <p:nvPr/>
        </p:nvPicPr>
        <p:blipFill>
          <a:blip r:embed="rId1"/>
          <a:stretch/>
        </p:blipFill>
        <p:spPr>
          <a:xfrm>
            <a:off x="0" y="1700280"/>
            <a:ext cx="1219212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334800" y="765000"/>
            <a:ext cx="10730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Outubr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Imagem 1" descr=""/>
          <p:cNvPicPr/>
          <p:nvPr/>
        </p:nvPicPr>
        <p:blipFill>
          <a:blip r:embed="rId1"/>
          <a:stretch/>
        </p:blipFill>
        <p:spPr>
          <a:xfrm>
            <a:off x="0" y="1628640"/>
            <a:ext cx="1219212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R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334800" y="765000"/>
            <a:ext cx="1080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Outubro (2016 e 2017) – Em R$ milhões de Outubr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34800" y="633744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Imagem 1" descr=""/>
          <p:cNvPicPr/>
          <p:nvPr/>
        </p:nvPicPr>
        <p:blipFill>
          <a:blip r:embed="rId1"/>
          <a:stretch/>
        </p:blipFill>
        <p:spPr>
          <a:xfrm>
            <a:off x="-28440" y="1685880"/>
            <a:ext cx="1219176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1523880" y="8366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e Outubr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Imagem 1" descr=""/>
          <p:cNvPicPr/>
          <p:nvPr/>
        </p:nvPicPr>
        <p:blipFill>
          <a:blip r:embed="rId1"/>
          <a:stretch/>
        </p:blipFill>
        <p:spPr>
          <a:xfrm>
            <a:off x="0" y="1916280"/>
            <a:ext cx="1219212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152388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334800" y="698400"/>
            <a:ext cx="10801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de Outubr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312840" y="645480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Imagem 1" descr=""/>
          <p:cNvPicPr/>
          <p:nvPr/>
        </p:nvPicPr>
        <p:blipFill>
          <a:blip r:embed="rId1"/>
          <a:stretch/>
        </p:blipFill>
        <p:spPr>
          <a:xfrm>
            <a:off x="0" y="1341360"/>
            <a:ext cx="12192120" cy="5113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Silvana do Socorro Machado Rodrigues - MPS</cp:lastModifiedBy>
  <cp:lastPrinted>2017-01-26T10:42:46Z</cp:lastPrinted>
  <dcterms:modified xsi:type="dcterms:W3CDTF">2017-12-04T14:13:02Z</dcterms:modified>
  <cp:revision>444</cp:revision>
  <dc:subject/>
  <dc:title>Demografia</dc:title>
</cp:coreProperties>
</file>